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5D50-6F68-4FB8-950E-2128C5385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DDC1-B6D6-40E0-8153-22ADD335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4CB-3B91-4B7F-BDD5-6CEED45B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189-40D5-4C16-9310-EB48891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3C3-6B5D-4A75-A624-A60A9793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ED5-2C3D-4B2C-9A12-9F78B48E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747-DB9B-4EAB-879F-126FD7B0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4091-0316-4731-B9A7-6F74435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A7E7-347F-4C9E-81FF-CC97CE6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CBAF-6ACE-4785-A253-1C868F6D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9465-5C67-4825-8414-378CC736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BCE-F9D5-4112-A5F8-562A8CED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E62-31C3-4823-A1BA-98006EF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03B-8A79-4424-A8EE-0EE1506B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BB3D-F800-4483-AB57-381BA1D9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5AA-6334-403A-BA01-4B30E33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189-3761-4B6A-9984-05F60CB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4B4-CC20-4D6E-A21D-6C0C9C7C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1C91-5E25-49F4-B81F-06BF9B93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9A34-1BE4-4724-A512-1275D5E1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1095-B3BA-4D19-80AE-5F655CE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B082-BC47-4D92-916E-84412161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9AAF-6C23-49C7-8DE3-F805514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DC5F-D912-4339-ABB8-4E6E48E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300-250B-4565-B222-9ECED6B1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E9FF-0D06-48D4-BFFB-B65E57A4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220F-B78A-4CEB-BB8F-0F2AFD2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1209-19FD-42B6-BD61-3E1F0DA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D16F-CF0A-4CBC-B85F-58DE652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B59F-521A-4FBE-A48E-6323388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29FC-E520-4DA7-9F8E-16CCC08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8EEA-82C3-4212-A2BC-563912DB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903A-545F-4355-928B-80EB283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4AA2-F119-4D50-92D8-E22819B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F84C-0244-4F35-B476-96005B36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AD6-DBE8-4E2D-AFA9-857EA53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F34B-2F81-4F20-B0BD-4475A3C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1208-58B4-4635-846E-7EF01A40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0D89-961A-4AFD-97CD-78301CA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B322-D86D-4DC8-A404-602314C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05C9-B759-4B77-AF29-B3061B5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15E3-19C0-4C7E-BD57-102283C8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A228-61A1-4D19-BEB7-7BB27F2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C26C-0056-464E-8A39-8A795BB3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1E82-3557-4304-82D6-E997D73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126E1-29BF-4790-BC28-B278746C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5C4-26B2-4342-944D-0E76D66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E7C6-0E0D-454E-BC0E-54F4F2E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A8C7-F09F-46B8-B034-7331731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C7A9-7717-4BA1-AFA5-BFE2708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9DE0-BAF1-47C9-AD37-7F4FDB44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159F-FF8C-4C6A-A710-E68E18D4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6ABF-8EF3-4882-8A91-996B650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12D2-1F30-41C5-8AB7-F761D57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B64B-62BC-4026-A22D-812C5FB7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2121-6B01-4956-92C3-C419CDD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4651-688D-484D-A1F3-811A316C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AC0-C8FD-4836-9B23-6C5E0434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1C62-AC33-40C1-ACB5-DED9372B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3A18-D374-468A-8E26-1FFCBD43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9126-24DD-40EB-B246-7F7E78C0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BA03-21D8-4DA2-A5ED-0D0ADA79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C778-6141-46A6-8E79-AEB7FB9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DACA2-DB62-45DE-993E-E4ED70F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CBDE-16F2-461D-8C64-A4253CB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BA6C-58C9-41AC-BACC-85CA6DA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FC25-D27B-4D4D-A1A5-3339621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8D85-009A-40FA-ADEE-6B8ADC9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117-549B-43F1-BA7F-3FC0566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7652-A3DB-40DA-85CE-3CEA1B9D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F699-BA40-42EB-9FE8-7AB7CCA3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9916-B61B-4E7C-B499-1674755F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9AF3C-7D83-4A18-BFB4-861822E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B874-9B43-4240-9E6E-A5E561A5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47D4-FE30-4C4D-AAB8-B433035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71E77-CBCB-4CDF-9D64-0E6F32A1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ECF29-537E-4558-BD51-D53C075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5A23-A07A-4FD1-8BCD-635CC18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EAD1-7818-4BB1-AF64-33F21898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B38-9AD5-4D6B-ADC0-1AE6127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2D4F-8479-41D9-ADD5-465FEF7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DBA5-A131-4FBE-A68C-C347C02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8EDA-7A8C-4C59-8293-CF21B8F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D6A1D-0209-4D45-A53B-24DD93A5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7B82E-178A-4359-AC76-80C4F280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3760-BF0F-4B4D-99F4-AF74109A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C096B-970F-4230-9548-1484D55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CBA28-5BC7-4812-83AE-ABB54D1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FCE8-72CA-4B20-B48B-FA36389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B4469-7249-47C9-9C67-56C27144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E81-19F0-4B6C-A467-3688DDA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0867-AAFD-441C-94EB-429524C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1FB33-D20C-4FD2-B8B5-BE853195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BF96-E63E-4B9F-B891-FD500AC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A6390-4518-416A-A4A9-FC505B8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B3C28-166F-4347-BDE5-091F507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E73B7-6E70-495D-BD46-7AB891AE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D19F4-D935-4621-BFEF-F0170F62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19AF-9E5B-4EAD-B09B-529307E3F1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CAD9-8553-4AAD-9F2F-FD2A89EFBF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84B-507A-40BE-AAF4-FACAC06C87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F16-E636-4C18-AD2D-D122D3F3327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824-33CA-4FCD-A328-FC73EE6711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1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6419-6D95-4E9F-BFD8-6068C169E2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1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4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CC7-662B-478E-9EC3-F2DC31C1DB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33A5-6F9F-4453-9ABE-558C34273D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1484280"/>
            <a:ext cx="755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13. </a:t>
            </a:r>
            <a:r>
              <a:rPr b="1" lang="sr-RS" sz="48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ГЕНЕТИЧКИ МЕХАНИЗМИ ИМУНОЛОШКИХ СПОСОБ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38512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лијској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одб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уч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твују Т лимфоц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кo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пoмo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рецeптoра на пoв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свo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х 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познају антигене везане за МНС протеине који су им приказани од стране антиген-презентујућих ћел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 разарaју aнтиг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4" descr="T limfociti"/>
          <p:cNvPicPr/>
          <p:nvPr/>
        </p:nvPicPr>
        <p:blipFill>
          <a:blip r:embed="rId1"/>
          <a:stretch/>
        </p:blipFill>
        <p:spPr>
          <a:xfrm>
            <a:off x="4500720" y="549360"/>
            <a:ext cx="4376520" cy="56880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5"/>
          <p:cNvSpPr/>
          <p:nvPr/>
        </p:nvSpPr>
        <p:spPr>
          <a:xfrm>
            <a:off x="5510880" y="119700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етер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644720" y="19890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4698000" y="289872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7669800" y="342900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6445800" y="54936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7831800" y="24922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етер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766980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help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 лимфоц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Улога </a:t>
            </a:r>
            <a:r>
              <a:rPr b="1" lang="sr-CS" sz="4200" spc="-1" strike="noStrike">
                <a:solidFill>
                  <a:srgbClr val="ff0000"/>
                </a:solidFill>
                <a:latin typeface="Times New Roman"/>
              </a:rPr>
              <a:t>гена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 у контроли механизма имунолошке реакције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нте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ткивних анти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пособност препознавања анти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егулаци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синтезе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теракци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лимфоцита у току имуног одгов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7045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Times New Roman"/>
              </a:rPr>
              <a:t>УЛОГА ИМУНОГ СИСТЕМА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познаје и штити организам од микроорганизама и других страних материја које доспевају у те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амти стране материје и разлику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д о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 којe п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aдaју људском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a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м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пречава да дође до оплoђењa измeђу гaмeтa рaзличи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 б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лoш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 врст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ј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пствене малигне ћелиј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бацује трансплантирана ткива и орга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LA</a:t>
            </a:r>
            <a:r>
              <a:rPr b="1" lang="sr-C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умани леукоцитарни антиген) систем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SH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/М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(главни комплекс хистокомпатибилности) 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321300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разликовања страног од сопственог је главна одлика имуног систем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МНС протеине/ </a:t>
            </a:r>
            <a:r>
              <a:rPr b="1" lang="sr-Latn-CS" sz="2800" spc="-1" strike="noStrike">
                <a:solidFill>
                  <a:srgbClr val="0000ff"/>
                </a:solidFill>
                <a:latin typeface="Times New Roman"/>
              </a:rPr>
              <a:t>HLA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антиген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- кодира велики генски комплекс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нгл. Major Histocompatibility Comple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  на 6. хромоз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лиморфни гени са  великим бројем ал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Гени </a:t>
            </a:r>
            <a:r>
              <a:rPr b="1" lang="sr-Latn-CS" sz="4200" spc="-1" strike="noStrike">
                <a:solidFill>
                  <a:srgbClr val="000000"/>
                </a:solidFill>
                <a:latin typeface="Times New Roman"/>
              </a:rPr>
              <a:t>MHC/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 система подељени у две класе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ЛАС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класе проте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ира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H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теине који везују антигене и налазе се на мембранама свих ћелија;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њих препознају 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ЛАС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ласе проте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ира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HC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теине који везују антигене и налазе се на одређеним ћелијским мембранама: В лимфоцита, макрофага, сперматозоида, епителних ћелија: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њих препознају помоћнички Т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Гени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 систем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што се сви гени овог система (свака особа има 12 гена који кодирају МНС протеине) налазе на једном хромозому (бр. 6) они се заједно наслеђују (као целина) и представљају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хаплот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 значи да се наслеђује један очев 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дан мајчин хаплотип у целини (јед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јчина и једна очева комбин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роватноћа да брат и сестра имају ист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нтигене/МНС протеине је  25% - трансплантација орг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Times New Roman"/>
              </a:rPr>
              <a:t>АНТИТ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тигени изазивају специфичан имуни одговор који је испољен у стварању анти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глобулинск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) молекули који се стварају у великом броју при чему сваки има специфично антиген-везујуће мес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дукују их В лимфоц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в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молекули створени од једног В лимфоцита имају исту антигенску специфичност (исто место за везивање антигенске детерминант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Структура имуноглобулина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2 идентична лак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cc0099"/>
                </a:solidFill>
                <a:latin typeface="Times New Roman"/>
              </a:rPr>
              <a:t>2 идентична тешка ла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Варијабилне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) секве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термину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константне (С) секве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 С термину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Ј и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1" lang="sr-CS" sz="2400" spc="-1" strike="noStrike">
                <a:solidFill>
                  <a:srgbClr val="33cc33"/>
                </a:solidFill>
                <a:latin typeface="Times New Roman"/>
              </a:rPr>
              <a:t> реги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Times New Roman"/>
              </a:rPr>
              <a:t>Антиген-везујуће место</a:t>
            </a:r>
            <a:r>
              <a:rPr b="0" lang="sr-CS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–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регионима лаког и тешког ла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11" descr="Ig str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4608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4503240" y="148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Антиген-везуј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7157520" y="148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Антиген-везују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6014160" y="19890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Згл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4357440" y="3573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Лаки лан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7871400" y="350028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Ј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>
            <a:off x="7667640" y="2781360"/>
            <a:ext cx="43344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8016120" y="3141720"/>
            <a:ext cx="112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V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рег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7164360" y="357336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7814160" y="40766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 рег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3"/>
          <p:cNvSpPr/>
          <p:nvPr/>
        </p:nvSpPr>
        <p:spPr>
          <a:xfrm flipV="1">
            <a:off x="6804000" y="4365720"/>
            <a:ext cx="1081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716436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4503600" y="45813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Тешки лан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imuno9"/>
          <p:cNvPicPr/>
          <p:nvPr/>
        </p:nvPicPr>
        <p:blipFill>
          <a:blip r:embed="rId1"/>
          <a:stretch/>
        </p:blipFill>
        <p:spPr>
          <a:xfrm>
            <a:off x="2819520" y="380880"/>
            <a:ext cx="3498840" cy="61722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5410080" y="1219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5334120" y="1219320"/>
            <a:ext cx="1522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 flipH="1">
            <a:off x="3733920" y="1523880"/>
            <a:ext cx="761760" cy="4572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9718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800080"/>
                </a:solidFill>
                <a:latin typeface="Arial"/>
              </a:rPr>
              <a:t>antigenska determin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 flipH="1">
            <a:off x="3886200" y="2209680"/>
            <a:ext cx="838080" cy="13716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 flipH="1" flipV="1">
            <a:off x="3809520" y="3962520"/>
            <a:ext cx="762120" cy="17524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20040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Arial"/>
              </a:rPr>
              <a:t>zglobni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Класе имуноглобулина/антитела</a:t>
            </a:r>
            <a:r>
              <a:rPr b="1" lang="sr-CS" sz="4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M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G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A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D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ласификација се 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ши на основу С региона њихових тешких лана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-2235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Главна класа 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IgG-</a:t>
            </a: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 ствара се током секундарног имуног одговора.То је једина класа која може да прође кроз плаценту, лучи се и у мајчино млеко па обезбеђуј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cc0099"/>
                </a:solidFill>
                <a:latin typeface="Times New Roman"/>
              </a:rPr>
              <a:t> заштиту новорођенчета од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2d7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Иму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ки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 систе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сложен систем одбране организма од страних мате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Антиген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су стране материје које побуђују имуни одгов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Главн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oдбр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м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ају лимфоц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 Т 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B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лимфоцит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5040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аки ланци имуноглобул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 класе:</a:t>
            </a:r>
            <a:r>
              <a:rPr b="1" lang="sr-C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l-GR" sz="2800" spc="-1" strike="noStrike">
                <a:solidFill>
                  <a:srgbClr val="0000ff"/>
                </a:solidFill>
                <a:latin typeface="Constantia"/>
                <a:ea typeface="Tahoma"/>
              </a:rPr>
              <a:t>λ</a:t>
            </a:r>
            <a:r>
              <a:rPr b="1" lang="sr-CS" sz="2800" spc="-1" strike="noStrike">
                <a:solidFill>
                  <a:srgbClr val="0000ff"/>
                </a:solidFill>
                <a:latin typeface="Constantia"/>
                <a:ea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и </a:t>
            </a:r>
            <a:r>
              <a:rPr b="1" lang="el-GR" sz="2800" spc="-1" strike="noStrike">
                <a:solidFill>
                  <a:srgbClr val="0000ff"/>
                </a:solidFill>
                <a:latin typeface="Constantia"/>
                <a:ea typeface="Tahoma"/>
              </a:rPr>
              <a:t>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  <a:ea typeface="Tahoma"/>
              </a:rPr>
              <a:t>Једно антитело увек има об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ahoma"/>
              </a:rPr>
              <a:t>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  <a:ea typeface="Tahoma"/>
              </a:rPr>
              <a:t>лака ланца истог ти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и ланци имуноглобул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7 врста: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α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,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2А,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2В,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  <a:ea typeface="Tahoma"/>
              </a:rPr>
              <a:t>γ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3),</a:t>
            </a:r>
            <a:r>
              <a:rPr b="1" lang="sr-CS" sz="2800" spc="-1" strike="noStrike">
                <a:solidFill>
                  <a:srgbClr val="cc0099"/>
                </a:solidFill>
                <a:latin typeface="Constantia"/>
                <a:ea typeface="Tahoma"/>
              </a:rPr>
              <a:t>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δ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  <a:ea typeface="Tahoma"/>
              </a:rPr>
              <a:t>, </a:t>
            </a:r>
            <a:r>
              <a:rPr b="1" lang="el-GR" sz="2800" spc="-1" strike="noStrike">
                <a:solidFill>
                  <a:srgbClr val="cc0099"/>
                </a:solidFill>
                <a:latin typeface="Constantia"/>
                <a:ea typeface="Tahoma"/>
              </a:rPr>
              <a:t>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арни и секундарни имуни одговор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контакту са антигеном већ после неколико дана јавља се имуни одговор, расте брзо а затим постепено опа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имарни имуни одгово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о се организам после извесног времена поново буде у контакту са истим антигеном долази до наглог имуног одговора, који је бржи и јачи него примар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секундарни имуни одгово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</a:rPr>
              <a:t>Секундарни имуни одговор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122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еномен се објашњава тиме да поред наивних ћелија (нису биле у контакту са антигеном) и ефекторских постоје још и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меморијс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ћел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оријске ћелије настају диференцирањем наивних ћелија после сусрета са антигеном.Један део се диференцира у ефекторске а један у меморијс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оријске ћелије живе јако дуго, чак и цео животни век организ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новном сусрету са антигеном меморијске ћелије се брже активирају и ефикасније претварају у ефекторс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5" descr="mc10001"/>
          <p:cNvPicPr/>
          <p:nvPr/>
        </p:nvPicPr>
        <p:blipFill>
          <a:blip r:embed="rId1"/>
          <a:stretch/>
        </p:blipFill>
        <p:spPr>
          <a:xfrm>
            <a:off x="5219640" y="1341360"/>
            <a:ext cx="392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Гени за имуноглобулине</a:t>
            </a:r>
            <a:r>
              <a:rPr b="0" lang="sr-CS" sz="5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хромо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зому бр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 14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налази се група од 10-так гена за 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он и бројни гени 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рег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хромозoму бр.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 гени који кодирај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ион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лаког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ца, као и 100 генa з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ион лаког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хромозoму бр.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ни 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гион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ц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Гени који се налазе на различитим хромозомима а детерминишу исто својство представљају </a:t>
            </a:r>
            <a:r>
              <a:rPr b="1" i="1" lang="sr-CS" sz="4200" spc="-1" strike="noStrike">
                <a:solidFill>
                  <a:srgbClr val="0000ff"/>
                </a:solidFill>
                <a:latin typeface="Times New Roman"/>
              </a:rPr>
              <a:t>фамилије гена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43588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У току сазревања В лимфоцит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 који производе имуноглобулине долази до </a:t>
            </a:r>
            <a:r>
              <a:rPr b="0" lang="sr-CS" sz="4200" spc="-1" strike="noStrike">
                <a:solidFill>
                  <a:srgbClr val="0000ff"/>
                </a:solidFill>
                <a:latin typeface="Times New Roman"/>
              </a:rPr>
              <a:t>рекомбинације ДНК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  и спајања гена за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, Ј,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sr-CS" sz="4200" spc="-1" strike="noStrike">
                <a:solidFill>
                  <a:srgbClr val="000000"/>
                </a:solidFill>
                <a:latin typeface="Times New Roman"/>
              </a:rPr>
              <a:t>и С регионе</a:t>
            </a:r>
            <a:br>
              <a:rPr sz="3800"/>
            </a:b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laki lanac copy"/>
          <p:cNvPicPr/>
          <p:nvPr/>
        </p:nvPicPr>
        <p:blipFill>
          <a:blip r:embed="rId1"/>
          <a:stretch/>
        </p:blipFill>
        <p:spPr>
          <a:xfrm>
            <a:off x="971640" y="476280"/>
            <a:ext cx="7200720" cy="599436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973800" y="5373720"/>
            <a:ext cx="272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Рекомбинација ген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сегманата који код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хумани к лаки ланац 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411560" y="284040"/>
            <a:ext cx="2050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Сегменти </a:t>
            </a:r>
            <a:r>
              <a:rPr b="1" lang="en-US" sz="1600" spc="-1" strike="noStrike">
                <a:solidFill>
                  <a:srgbClr val="0f6fc6"/>
                </a:solidFill>
                <a:latin typeface="Times New Roman"/>
              </a:rPr>
              <a:t>V </a:t>
            </a: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358160" y="260280"/>
            <a:ext cx="157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Гени Ј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6086880" y="260280"/>
            <a:ext cx="1497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f6fc6"/>
                </a:solidFill>
                <a:latin typeface="Times New Roman"/>
              </a:rPr>
              <a:t>Ген С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7310880" y="1341360"/>
            <a:ext cx="9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ДНК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В лимф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4647240" y="20606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транскрип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7240680" y="27082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Pre-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7312320" y="3933720"/>
            <a:ext cx="7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Зр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6787080" y="52023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от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4861800" y="4508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teski lanac copy"/>
          <p:cNvPicPr/>
          <p:nvPr/>
        </p:nvPicPr>
        <p:blipFill>
          <a:blip r:embed="rId1"/>
          <a:stretch/>
        </p:blipFill>
        <p:spPr>
          <a:xfrm>
            <a:off x="900000" y="333360"/>
            <a:ext cx="7283520" cy="6524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4573440" y="765000"/>
            <a:ext cx="25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оматска рекомбин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790880" y="1484280"/>
            <a:ext cx="15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крип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4861800" y="393372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транс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4862520" y="270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обрада 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7238160" y="4437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от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5850360" y="48420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С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4266360" y="49150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V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7381080" y="981000"/>
            <a:ext cx="83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НК 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лимф</a:t>
            </a:r>
            <a:r>
              <a:rPr b="1" lang="sr-CS" sz="1400" spc="-1" strike="noStrike">
                <a:solidFill>
                  <a:srgbClr val="0f6fc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7456320" y="19890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Pre-</a:t>
            </a: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и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903600" y="5942160"/>
            <a:ext cx="28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Соматска рекомбин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генских сегмената кој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imes New Roman"/>
              </a:rPr>
              <a:t>кодирају тешки ланац 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</a:rPr>
              <a:t>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Мехaнизми нaстaјaњa рaзноликости</a:t>
            </a: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коришћењем р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личитих V-D-J комбин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ј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зличитим лимфоцити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грешк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у V-D-J спојевим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се мењ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редосле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уклеоти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Times New Roman"/>
              </a:rPr>
              <a:t>Имуногенетика крвних груп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5040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845964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sr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Т лимфоци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моћу рецептора на површини мембране препознају антиге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гу б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цитотоксичн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убијају инфициране ћелије)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-17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er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моћнич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Т лимфоцити  (помажу другим ћелијама: Б лимфоцитима, макрофагама, цитотоксичним лимфоцит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моћнички 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имфоцит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уче велики број сигналних протеина –</a:t>
            </a:r>
            <a:r>
              <a:rPr b="0" lang="sr-CS" sz="2800" spc="-1" strike="noStrike">
                <a:solidFill>
                  <a:srgbClr val="cc0099"/>
                </a:solidFill>
                <a:latin typeface="Times New Roman"/>
              </a:rPr>
              <a:t>цитокини и костимулаторс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cc0099"/>
                </a:solidFill>
                <a:latin typeface="Times New Roman"/>
              </a:rPr>
              <a:t>протеин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ко којих утичу на ћелије  које треба да активирај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Цитотоксични Т лимфоци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бијају ћелије помоћу протеина које луче или исказују на својој површ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-900360" y="4869000"/>
            <a:ext cx="88930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99ff33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4000" y="7045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Имуногенетика крвних група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9200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ксперимент је изве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рл Ланштајнер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9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99"/>
                </a:solidFill>
                <a:latin typeface="Times New Roman"/>
              </a:rPr>
              <a:t>ABO </a:t>
            </a:r>
            <a:r>
              <a:rPr b="1" lang="sr-CS" sz="2800" spc="-1" strike="noStrike">
                <a:solidFill>
                  <a:srgbClr val="cc0099"/>
                </a:solidFill>
                <a:latin typeface="Times New Roman"/>
              </a:rPr>
              <a:t>систем</a:t>
            </a:r>
            <a:r>
              <a:rPr b="1" lang="sr-Latn-CS" sz="2800" spc="-1" strike="noStrike">
                <a:solidFill>
                  <a:srgbClr val="cc0099"/>
                </a:solidFill>
                <a:latin typeface="Times New Roman"/>
              </a:rPr>
              <a:t> (A, B, AB, 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терминише ген на хромозому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ој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а три ал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Мултипни алелизам</a:t>
            </a: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24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Један ген заступљен са више од два различита алелна облик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Кодоминантан одно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</a:rPr>
              <a:t>Ген за АБО систем крвних група код људ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ff"/>
                </a:solidFill>
                <a:latin typeface="Times New Roman"/>
              </a:rPr>
              <a:t>Хијерархијски однос доминан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ен за боју длаке код кунића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(4 различита алела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9152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0000"/>
                </a:solidFill>
                <a:latin typeface="Times New Roman"/>
              </a:rPr>
              <a:t>Кодоминантни однос</a:t>
            </a:r>
            <a:br>
              <a:rPr sz="4200"/>
            </a:b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3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) &gt; I</a:t>
            </a:r>
            <a:r>
              <a:rPr b="1" lang="en-GB" sz="33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3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16000" y="1574640"/>
          <a:ext cx="8686800" cy="5054760"/>
        </p:xfrm>
        <a:graphic>
          <a:graphicData uri="http://schemas.openxmlformats.org/drawingml/2006/table">
            <a:tbl>
              <a:tblPr/>
              <a:tblGrid>
                <a:gridCol w="1768320"/>
                <a:gridCol w="2803680"/>
                <a:gridCol w="2041560"/>
                <a:gridCol w="207324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о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A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хетер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A, aн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со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 O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v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хомоз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нтитело A, aнтитело 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Хијерархијски однос доминантност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 за боју длаке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(4 различита алела)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439272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 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 (10)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тпунa о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еност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зн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;  C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a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тло-сива бој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химaлaјскa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 c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aлbино </a:t>
                      </a:r>
                      <a:r>
                        <a:rPr b="0" lang="sr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ј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600" spc="-1" strike="noStrike">
                <a:solidFill>
                  <a:srgbClr val="000000"/>
                </a:solidFill>
                <a:latin typeface="Times New Roman"/>
              </a:rPr>
              <a:t>Rh </a:t>
            </a:r>
            <a:r>
              <a:rPr b="1" lang="sr-CS" sz="56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Детерминише ген на хромозому 1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(D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sr-Latn-C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  DD, Dd;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Rh</a:t>
            </a:r>
            <a:r>
              <a:rPr b="1" lang="en-US" sz="30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dd</a:t>
            </a:r>
            <a:r>
              <a:rPr b="0" lang="sr-Latn-C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Планирање породиц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1 DD, Dd, 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544" name="Picture 3" descr="Rh"/>
          <p:cNvPicPr/>
          <p:nvPr/>
        </p:nvPicPr>
        <p:blipFill>
          <a:blip r:embed="rId1"/>
          <a:stretch/>
        </p:blipFill>
        <p:spPr>
          <a:xfrm>
            <a:off x="-135000" y="217440"/>
            <a:ext cx="92790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s </a:t>
            </a:r>
            <a:r>
              <a:rPr b="1" lang="sr-CS" sz="50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ни који детерминишу ова два система налазе се на хромозому бр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(кодоминантни алели М и </a:t>
            </a:r>
            <a:r>
              <a:rPr b="0" lang="sr-Latn-C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- 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ЗРАДА ПРОБЛЕМСКИХ ЗАДАТ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 лимфоцити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имуном одговору су стимулисани да стварају антит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кон активације антигенима пролиферишу и диференцирају се у ефекторске ћелије (плазма ћелиј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imuno3"/>
          <p:cNvPicPr/>
          <p:nvPr/>
        </p:nvPicPr>
        <p:blipFill>
          <a:blip r:embed="rId1"/>
          <a:stretch/>
        </p:blipFill>
        <p:spPr>
          <a:xfrm>
            <a:off x="1547640" y="981000"/>
            <a:ext cx="5905800" cy="48243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0"/>
          <p:cNvSpPr/>
          <p:nvPr/>
        </p:nvSpPr>
        <p:spPr>
          <a:xfrm>
            <a:off x="187200" y="21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рекур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-2772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Хематопоет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матична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731680" y="4149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лимфоц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костне ср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808080" y="335772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лимф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тим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5655600" y="220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5798160" y="4869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В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4042800" y="170028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т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32000" y="620640"/>
            <a:ext cx="41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Хематопоетско ткиво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и тимус 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примарни лимфн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5273280" y="105264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ерифер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орг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5547600" y="3573360"/>
            <a:ext cx="98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cc00ff"/>
                </a:solidFill>
                <a:latin typeface="Tahoma"/>
              </a:rPr>
              <a:t>анти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6854760" y="256536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ЋЕЛИЈ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ИМУНИ 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7092720" y="429264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ХУМОР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ИМУНИ 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</a:rPr>
              <a:t>Зрели Т и В лимфоцити прелазе у крв, а из крви у секундарне лимфне органе</a:t>
            </a: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268000" y="1600200"/>
            <a:ext cx="3527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6" descr="imuno5"/>
          <p:cNvPicPr/>
          <p:nvPr/>
        </p:nvPicPr>
        <p:blipFill>
          <a:blip r:embed="rId1"/>
          <a:stretch/>
        </p:blipFill>
        <p:spPr>
          <a:xfrm>
            <a:off x="2195640" y="1341360"/>
            <a:ext cx="4313160" cy="55166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7"/>
          <p:cNvSpPr/>
          <p:nvPr/>
        </p:nvSpPr>
        <p:spPr>
          <a:xfrm>
            <a:off x="1751400" y="19162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адено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4983120" y="20606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онз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2107080" y="29242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т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5898960" y="2795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суд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6111000" y="337176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Лимфни чво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127920" y="39481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сле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699920" y="3860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аје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118880" y="46530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Слепо ц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1187280" y="5373720"/>
            <a:ext cx="15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ff"/>
                </a:solidFill>
                <a:latin typeface="Tahoma"/>
              </a:rPr>
              <a:t>Костна ср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000000"/>
                </a:solidFill>
                <a:latin typeface="Arial"/>
              </a:rPr>
              <a:t>Т и </a:t>
            </a:r>
            <a:r>
              <a:rPr b="0" lang="sr-Latn-CS" sz="4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4600" spc="-1" strike="noStrike">
                <a:solidFill>
                  <a:srgbClr val="000000"/>
                </a:solidFill>
                <a:latin typeface="Arial"/>
              </a:rPr>
              <a:t> лимфоцити могу се разликовати морфолошки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2636640"/>
            <a:ext cx="721044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кују  се тек после активације антигени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д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лимфоцити пролиферишу и диференцирају се у ефекторске ћелије-плазма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лазма ћелије имају јако развијен гранулирани Е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Times New Roman"/>
              </a:rPr>
              <a:t>Имунски систем обухвата 2 механизма одбране против антигена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3348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Times New Roman"/>
              </a:rPr>
              <a:t>ХУМОРАЛНА ОДБР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Times New Roman"/>
              </a:rPr>
              <a:t>ЋЕЛИЈСКА ОДБР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7" descr="imuno6"/>
          <p:cNvPicPr/>
          <p:nvPr/>
        </p:nvPicPr>
        <p:blipFill>
          <a:blip r:embed="rId1"/>
          <a:stretch/>
        </p:blipFill>
        <p:spPr>
          <a:xfrm>
            <a:off x="3780000" y="1484280"/>
            <a:ext cx="4537080" cy="53737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"/>
          <p:cNvSpPr/>
          <p:nvPr/>
        </p:nvSpPr>
        <p:spPr>
          <a:xfrm>
            <a:off x="6123600" y="162864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пат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669720" y="306864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Инфици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H="1">
            <a:off x="5148360" y="4076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491184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5076720" y="3284640"/>
            <a:ext cx="1752480" cy="761760"/>
            <a:chOff x="5076720" y="3284640"/>
            <a:chExt cx="1752480" cy="761760"/>
          </a:xfrm>
        </p:grpSpPr>
        <p:sp>
          <p:nvSpPr>
            <p:cNvPr id="421" name="Line 14"/>
            <p:cNvSpPr/>
            <p:nvPr/>
          </p:nvSpPr>
          <p:spPr>
            <a:xfrm flipH="1">
              <a:off x="5076720" y="3284640"/>
              <a:ext cx="914400" cy="76176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5991120" y="3284640"/>
              <a:ext cx="838080" cy="6854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16"/>
          <p:cNvSpPr/>
          <p:nvPr/>
        </p:nvSpPr>
        <p:spPr>
          <a:xfrm>
            <a:off x="3735360" y="393372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Хумор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6925680" y="3933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Ћелиј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ff"/>
                </a:solidFill>
                <a:latin typeface="Tahoma"/>
              </a:rPr>
              <a:t>од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3737880" y="46688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В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7061760" y="466884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Т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5385960" y="49356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антит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1"/>
          <p:cNvSpPr/>
          <p:nvPr/>
        </p:nvSpPr>
        <p:spPr>
          <a:xfrm>
            <a:off x="6008400" y="6553080"/>
            <a:ext cx="24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Смрт инфициране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2"/>
          <p:cNvSpPr/>
          <p:nvPr/>
        </p:nvSpPr>
        <p:spPr>
          <a:xfrm>
            <a:off x="5703840" y="150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3"/>
          <p:cNvSpPr/>
          <p:nvPr/>
        </p:nvSpPr>
        <p:spPr>
          <a:xfrm>
            <a:off x="5580000" y="162864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541656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5796000" y="1844640"/>
            <a:ext cx="15228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5416560" y="164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7"/>
          <p:cNvSpPr/>
          <p:nvPr/>
        </p:nvSpPr>
        <p:spPr>
          <a:xfrm>
            <a:off x="5508720" y="191628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хуморалној одбра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лимфоцитима (плазма ћелијам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синтетишу специфична </a:t>
            </a:r>
            <a:r>
              <a:rPr b="1" i="1" lang="sr-Latn-CS" sz="2800" spc="-1" strike="noStrike">
                <a:solidFill>
                  <a:srgbClr val="0000ff"/>
                </a:solidFill>
                <a:latin typeface="Times New Roman"/>
              </a:rPr>
              <a:t>анти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која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се везују за антигене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и инактивишу их или их разарају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B limfociti"/>
          <p:cNvPicPr/>
          <p:nvPr/>
        </p:nvPicPr>
        <p:blipFill>
          <a:blip r:embed="rId1"/>
          <a:stretch/>
        </p:blipFill>
        <p:spPr>
          <a:xfrm>
            <a:off x="4572000" y="333360"/>
            <a:ext cx="4278240" cy="62643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5"/>
          <p:cNvSpPr/>
          <p:nvPr/>
        </p:nvSpPr>
        <p:spPr>
          <a:xfrm>
            <a:off x="6858000" y="4492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прекур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4503600" y="98100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Различ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неактивир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503960" y="23018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854760" y="2276640"/>
            <a:ext cx="229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езивање антиген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лимф. са одговарајућ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нтигенским рецеп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6642720" y="335592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Активација В лимфоц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7504560" y="378792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пролифер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7382880" y="4869000"/>
            <a:ext cx="15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диференциј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7887600" y="609300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c00ff"/>
                </a:solidFill>
                <a:latin typeface="Times New Roman"/>
              </a:rPr>
              <a:t>анти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4502520" y="5229360"/>
            <a:ext cx="110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ефектор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пла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644720" y="422100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Кл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ff"/>
                </a:solidFill>
                <a:latin typeface="Times New Roman"/>
              </a:rPr>
              <a:t>В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2-01-26T14:25:56Z</dcterms:modified>
  <cp:revision>145</cp:revision>
  <dc:subject/>
  <dc:title>MUTACIJE GENA</dc:title>
</cp:coreProperties>
</file>